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4C5F-8A3D-40BA-8E11-EAEE0B32C7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25B6-E104-42E9-BA49-8378F2AC0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6288B-9A0F-4697-B069-4250BD5DA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47B6B-338E-4D16-83EE-EB98CD36E0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74A0-7B38-4674-8231-7D3E160CAE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7DACB-9E04-4B09-AFC6-D8EF8510C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DF8CB-31A9-4EBB-A955-3527909150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0E7B4-270E-4736-AFF4-5507D78C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0AB0F-683A-4C02-AA6A-F04D8677A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B7303-D584-4B42-9CD3-55A532484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2E96C-60BE-4B73-906D-A128A0EFB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1952F-D6A0-4441-82AD-998609451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419E-0DC5-4B91-97C1-625EE152CCF7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mbedded Objec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1612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slide contains an embedded objec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 is a simple harmless ASCII text fi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3" name="Object 2" descr=""/>
          <p:cNvPicPr/>
          <p:nvPr/>
        </p:nvPicPr>
        <p:blipFill>
          <a:blip r:embed="rId1"/>
          <a:stretch/>
        </p:blipFill>
        <p:spPr>
          <a:xfrm>
            <a:off x="3132000" y="3860640"/>
            <a:ext cx="2955960" cy="123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8T13:13:30Z</dcterms:created>
  <dc:creator>user</dc:creator>
  <dc:description/>
  <dc:language>en-US</dc:language>
  <cp:lastModifiedBy>user</cp:lastModifiedBy>
  <dcterms:modified xsi:type="dcterms:W3CDTF">2018-01-18T13:15:08Z</dcterms:modified>
  <cp:revision>1</cp:revision>
  <dc:subject/>
  <dc:title>Embedded Objects</dc:title>
</cp:coreProperties>
</file>