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FA8A3-20F1-416D-BE82-7E1BBA4A5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35636-4BBF-4ECE-8836-85A745CB4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CD72D-3F8E-4E9E-AE27-8A39E7159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47FD-CDA9-437F-BEAD-CA47D2C70C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243CF-9B2A-4B8B-921C-9EEF056015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952B1-B355-4C58-BF9E-60C91F867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ED2F0-B490-4468-9132-59F23C0BF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304EA-A50A-4D56-A0B5-8695B27A95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35D1-722D-4A94-9405-9E6EEAEF6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D141A-FFEC-4D6F-B64A-8ADB62C54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2774-7AB1-45DF-8293-0DD6206DA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6D0D-896E-4D90-B4E6-3C7E6CBA7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EE79B-2F2E-4A3D-8A56-8E71F8ECF6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356000" y="3645000"/>
            <a:ext cx="459000" cy="45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10:21:24Z</dcterms:created>
  <dc:creator>user</dc:creator>
  <dc:description/>
  <dc:language>en-US</dc:language>
  <cp:lastModifiedBy>user</cp:lastModifiedBy>
  <dcterms:modified xsi:type="dcterms:W3CDTF">2017-11-30T10:21:38Z</dcterms:modified>
  <cp:revision>1</cp:revision>
  <dc:subject/>
  <dc:title>Test</dc:title>
</cp:coreProperties>
</file>